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894-AB8C-4783-A89D-58611CED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841-A861-463B-B185-6A323A3F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4DE-F8A1-4AB2-B616-6769CB1B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7BD-7B28-46FD-B6CE-7361A21F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7418-06A2-4E84-89F4-8750556F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87C5-AFF2-4351-BDE6-A160FF3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D5FF-3B8B-4FE4-94CE-E4E80072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0A54-E0A8-42F6-BB5E-1377A5E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F6BA-2602-474F-A5D9-76F41406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7D03-4447-4BD5-93F5-6DCFC76B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DE14-3D8E-43FE-AA28-033399D0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B76-2784-4DD6-B523-9A1FE879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FE4C-4312-4A5A-B229-28CFF40E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66E1-D3AE-4443-BB68-B9CACAE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57E4-96FB-4CAE-825B-A386B85A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9A8-26E7-4A2D-A1D0-073AC935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2E9C-87FE-4434-974A-4B05BFC8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AC3-5181-4ECC-B302-39E7A6F6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9EE-7BB4-4A7A-AF8D-42D35ED1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504-15B3-47CD-853C-3F023A90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635-1A15-4754-981F-461918A8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A5F-591E-4516-B7B6-2D9A155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DC8-0F07-4275-B2F0-C080E4EA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88F-690B-4AD8-816C-300C9CA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A9A-5644-4718-AE32-11293D9B3F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2680-CC25-4C04-9486-4B97073CAC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troduction to the Book of Revel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6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5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last seven plague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John’s vision of the over comer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vials of wrath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7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6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 The angels pour out the vial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God’s judgment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first vial boils and sore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second and third vials are bloo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fourth vial, fire that would scorch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6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fifth vial, darknes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. The sixth vial, river dried up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. The battle of Armageddon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. The seventh vial, it is done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. The fall of evil pow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9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7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woman arrayed in purple and scarlet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scarlet woman, mother of harlot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mystery Babylo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woman and the beast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rise and fall of king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War is made against the Lamb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0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8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fall of Babylon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Sin is doome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God’s people are called out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evil of the world is defeate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kings and merchants are saddened ove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the defeat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fate of the city is given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9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marriage of the Lamb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praising choir in heaven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marriage of the Lamb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rider and the white horse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A great conflict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evil powers are joined together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. The Lamb is victoriou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20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thousand years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Satan is boun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believers are exalted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Satan’s final defeat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last judgm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21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A new heaven and earth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Holy city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All things are made new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A picture of the holy city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walls, gates, and foundation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pearly gate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. The light of the city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4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22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river and tree of life and the final warnings. B. Paradise is restored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truth of what John has seen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city is always ope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final warning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grace of Christ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apter 7: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he servants of God and The Sain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are seal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A vision is seen of the redeemed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The white robed sa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9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8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There is silence in heav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The seventh seal is opened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The sounding of the seven trumpet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The first trumpet brings judgments of hail, fire, etc. E. The second trumpet is sounded a Great Mountain 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see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The third trumpet brings the falling of a great star. G. The fourth trumpet sounds and the sun is smitten, etc. H. The fearful woes are now predict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0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3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9:</a:t>
            </a:r>
            <a:br>
              <a:rPr sz="24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. The fifth angel sounds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B. The fifth trumpet sounds and the abyss i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unlocked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. The locusts are described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D. We see the king of the abys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. The sixth trumpet sounds loosing the four bound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   angels of death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F. The horsemen and the horses are described.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G. No repenting is seen even with the judgment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0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John is commanded to eat the book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angel with the book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The voices of the seven thunders and th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utterances of them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A fullness of time, no more delay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A closing to the divine pla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John eats the book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1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preaching of the two witnesses.  B. Th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temple is measured on the inside. C. We se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the two witnesse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The power of the witnesse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A temporary victory over evil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The seventh trumpet sounds with the victory of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Christ’s kingdom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2: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. The woman clothed with the su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. The great red drago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. A war in heave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. Satan is cast out of heave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. The victory is foretold of God’s kingdom.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. Satan persecutes the woman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. A demonic spectacle is see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4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apter 13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The beast with seven heads and ten horns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The beast is seen rising from the sea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 The dragon is worshipped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. War is made against the believers.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 A beast comes up from the ear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Book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5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3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4:</a:t>
            </a:r>
            <a:br>
              <a:rPr sz="24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. Babylon is falling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B. The Lamb is seen and the heavenly chorus heard.  C. Those that follow the Lamb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D. The everlasting gospel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. The evil powers are going to fall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F. There is worship of the beast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G. The wicked will have no rest. 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H. There are two harvest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4:18:23Z</dcterms:created>
  <dc:creator> Fr. Younan</dc:creator>
  <dc:description/>
  <dc:language>en-US</dc:language>
  <cp:lastModifiedBy> Fr. Younan</cp:lastModifiedBy>
  <dcterms:modified xsi:type="dcterms:W3CDTF">2007-09-10T17:13:08Z</dcterms:modified>
  <cp:revision>77</cp:revision>
  <dc:subject/>
  <dc:title>Introduction to the Catholic Epistles</dc:title>
</cp:coreProperties>
</file>